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C83C-775D-4750-8483-280940137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FBA9-0D8C-46AF-BBE3-D4D076A8B8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0647-C800-46E7-B6FE-29CCEA608B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9947-C5AD-49D2-9D87-916418EAC2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05D6-B0E9-40D2-90D6-5D9246448B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A5AB-D24B-483F-A4F2-955A1D1F5EB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BA12-4D84-41B7-9C95-BB53BB262C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28FE-B5D5-4991-B452-E49F68DF487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08F9-C01C-4D80-B112-408A771F96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CA20-5D78-4624-8C96-81E4C97A229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FD27-1F34-443C-9E36-F52607043A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92B1-24F7-4FA1-A2F4-1BCA0CCAFD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7AA0-5B48-4D7C-8F38-A3A6341B23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E503-B95D-45E8-84F6-05C3D0B5A2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EDB0-EE21-4EEB-9329-E99E4B2A25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11FD-4F19-4E5C-8643-AA45E07F4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0A2A-EB64-4946-943D-BC5ECB16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9E5A-1F6A-4705-9EA9-A3072E924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60AC-BD24-4581-93D8-B75846045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5CFA-EAD2-4ECE-AB66-4C4EC461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9E49-73ED-4ABF-89C3-F4BD5406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0487-9056-4B57-8982-D18906BA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B116-C8A5-4A66-8AF1-DFFE6864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801F-A255-49EB-A6E2-8E2112F3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39C4-DEF0-4910-B611-F44E46C2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3342-4B16-49E9-8343-0E99C020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1CA0-04CC-4E69-9EBB-62FFF8EB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15DC-9E1A-4195-AA1B-B86DAE509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video.google.com/videoplay?docid=2408951936415169196" TargetMode="External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819520"/>
            <a:ext cx="7772400" cy="12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n example of a biogeochemical cyc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84040"/>
            <a:ext cx="7772400" cy="170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t The Be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pril 29, 20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s affect the nitrogen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579680"/>
            <a:ext cx="9144000" cy="527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ber-Bosch pro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ynthetic production of fertilizers by combining nitrogen and hydrogen to synthesize amm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matically changed the nitrogen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s are fixing as much nitrogen as nature d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emissions of nitrogen-containing greenhouse g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ium and potassium in soil washed out by fertiliz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idified water and so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d more nitrogen into plants and terrestri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Reduced biodiversity of plants adapted to low-nitrogen so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Changed estuaries and coastal ecosystems and fish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68200" y="180720"/>
            <a:ext cx="868536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 The Be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 3, 20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3048120"/>
            <a:ext cx="9144000" cy="30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s to happen to the gaseous form of Nitrogen before it can be utilized by pla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b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for Wednesday’s test on biogeochemical cy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68200" y="180720"/>
            <a:ext cx="868536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 The Bell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 4, 20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65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at are some components of the water cycl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Objective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ydrological Cyc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Video on Carbon Cyc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ydrologic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92240" y="1531440"/>
            <a:ext cx="8788320" cy="413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is essential for biochemical reactions and is involved in nearly every environmental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 Hydrologic cyc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ummarizes how liquid, gaseous and solid water flows through the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s are the main reservo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 Evapo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water moves from aquatic and land systems to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 Transpi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release of water vapor by 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 Precipi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ondensation of water vapor as rain or s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ydrologic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07_17"/>
          <p:cNvPicPr/>
          <p:nvPr/>
        </p:nvPicPr>
        <p:blipFill>
          <a:blip r:embed="rId1"/>
          <a:stretch/>
        </p:blipFill>
        <p:spPr>
          <a:xfrm>
            <a:off x="954000" y="1241280"/>
            <a:ext cx="7809120" cy="48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435960"/>
            <a:ext cx="868536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impacts on hydrologic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0" y="2361960"/>
            <a:ext cx="8788320" cy="28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mming rivers increases evaporation and infilt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ing the surface and vegetation increases runoff and ero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eading water on agricultural fields depletes rivers, lakes and str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ing forests and vegetation reduces transpiration and lowers water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itting pollutants changes the nature of precip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st threatening impact is overdrawing groundwater for drinking, irrigation, and industrial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8640" y="2209320"/>
            <a:ext cx="868536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uman Impacts on the Carbon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8200" y="82440"/>
            <a:ext cx="868536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trients circulate through eco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914400"/>
            <a:ext cx="9144000" cy="46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atter is circulated continually in an eco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*Nutrient (biogeochemical) cyc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he movement of nutrients through eco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osphere, hydrosphere, lithosphere, and bi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*Pool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reservoir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where nutrients reside for varying amounts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lu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movement of nutrients among pools, which change over time and are influenced by human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*Sour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pools that release more nutrients than they ac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*Sin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ccept more nutrients than they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8200" y="4320"/>
            <a:ext cx="8685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arbon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55680" y="990720"/>
            <a:ext cx="8788320" cy="46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 is found in carbohydrates, fats, proteins, bon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* Carbon cyc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describes the routes that carbon atoms take through the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tosynthesis moves carbon from the air to 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iration returns carbon to the air and oc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mposition returns carbon to the sediment, the largest reservoir of car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imately, it may be converted into fossil fu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The world’s oceans are the second largest reservoir of car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arbon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07_12"/>
          <p:cNvPicPr/>
          <p:nvPr/>
        </p:nvPicPr>
        <p:blipFill>
          <a:blip r:embed="rId1"/>
          <a:stretch/>
        </p:blipFill>
        <p:spPr>
          <a:xfrm>
            <a:off x="1752480" y="1143000"/>
            <a:ext cx="63248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s affect the phosphorus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2240" y="2339280"/>
            <a:ext cx="8788320" cy="251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ng rocks for fertilizer moves phosphorus from the soil to wat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tewater discharge also releases phospho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Runoff containing phosphorus causes eutrophication of aquatic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580920"/>
            <a:ext cx="777240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BIOGEOCHEMICAL CYCLE IS MAINLY CONSTRICTED TO THE LITHOSP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430560"/>
            <a:ext cx="7772400" cy="190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t the Bell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pril 30, 20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itrogen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163520"/>
            <a:ext cx="8153640" cy="53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Nitrogen comprises 78% of our atmosphere, and is contained in proteins, DNA and 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* Nitrogen cyc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describes the routes that nitrogen atoms take through the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rogen gas is inert and cannot be used by 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* Nitrogen fix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Nitrogen gas is combined (fixed) with hydrogen by nitrogen-fixing bacteria to become ammon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can be us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07_15"/>
          <p:cNvPicPr/>
          <p:nvPr/>
        </p:nvPicPr>
        <p:blipFill>
          <a:blip r:embed="rId1"/>
          <a:stretch/>
        </p:blipFill>
        <p:spPr>
          <a:xfrm>
            <a:off x="4343400" y="4495680"/>
            <a:ext cx="403848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trification and denitr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2240" y="947520"/>
            <a:ext cx="8788320" cy="529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Nitrific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bacteria that convert ammonium ions first into nitrite ions then into nitrate 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s can take up these 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ls obtain nitrogen by eating plants or other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enitrifying bacter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convert nitrates in soil or water to gaseous nitrogen, releasing it back into the atmosp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itrogen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07_14"/>
          <p:cNvPicPr/>
          <p:nvPr/>
        </p:nvPicPr>
        <p:blipFill>
          <a:blip r:embed="rId1"/>
          <a:stretch/>
        </p:blipFill>
        <p:spPr>
          <a:xfrm>
            <a:off x="1735200" y="1127160"/>
            <a:ext cx="626580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20:59:42Z</dcterms:created>
  <dc:creator>S'elena Faye Jones</dc:creator>
  <dc:description/>
  <dc:language>en-US</dc:language>
  <cp:lastModifiedBy>S'elena Faye Jones</cp:lastModifiedBy>
  <dcterms:modified xsi:type="dcterms:W3CDTF">2010-05-03T21:00:02Z</dcterms:modified>
  <cp:revision>1</cp:revision>
  <dc:subject/>
  <dc:title> What is an example of a biogeochemical cycle?</dc:title>
</cp:coreProperties>
</file>